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A73F4-EAD3-4C6F-9187-BB40467252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8D063-FF18-4780-BB0F-D0AB24AE1E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BBF38-4224-4AC5-994E-7D1111E567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802DC-B055-46E1-9386-4C3DA5CFAE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5F937-4973-4AEE-AA37-F92289D11C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8C5CC-5F97-4338-A23C-6FA32CBDBE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A6074-70F0-460F-880C-17F0C2C8C3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9082A-9F13-4037-94F1-EB16D7CC4C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15C69-9EEC-462B-93DE-BD9EA394E1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0C92E-4DEA-4CCA-942E-2FAD9F0F2E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2A906-E13B-4071-9AE8-8B108C5D88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6530C-0F70-4BD2-96D9-E19A018B85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43123-E397-449D-8FA3-6351043D05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DE809-6B8F-4D4E-8FCE-AAD79BBCF5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8A237-6ED9-4F46-B292-F7E3CE957B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AA6EC-3D81-4FB0-9DD0-BB73113808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5AAB5-F9BC-410F-8CB7-710CBAA4B4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F8EAC-1985-4C9A-9F3F-3A99FF65CF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4D26E-5C2A-4DED-9643-6A04CBC9CA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6A345-CCEC-488C-A2A9-B4919F75A2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7C930-5F0E-4957-9C06-CA5DFD8CDA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2D86B-3162-41F1-8F73-43A101AB3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97394-E255-4402-826A-677E81F63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0DBA5-B2F1-46EB-A440-A88AA4A899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92586EE-CE3C-4E38-98C0-033E8BD3D3BB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7E2D3F2-BE47-424F-AE33-F9B6B91AD68A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E97D518-3C38-42A9-829A-A10032885A42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F89B48C-3718-4BE3-9174-4B45512ECFEE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6B42-47EE-4C23-ADF2-FE34E8AF0443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5-10-28T10:14:06Z</dcterms:modified>
  <cp:revision>333</cp:revision>
  <dc:subject/>
  <dc:title>No Slide Title</dc:title>
</cp:coreProperties>
</file>